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5B8E-1B93-4E69-A77A-2CB87F16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AA1-F058-4000-AB4C-3ABF208B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438-217F-4ADE-A29F-92E2B91F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44E7-01EB-4BA6-81AB-A36F3FF3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F235-FC94-4E75-8ECC-2C7C4063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B4ED-EA3C-4B7C-8F5C-1EC9DC8D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193F-23EE-4FF9-AC92-DEA9A635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5E7-274E-4C7B-B43D-2048CF63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369-E42C-4A03-8528-362F2B00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0708-DCA4-4868-874F-D2D02240A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18F-A60F-447E-A909-7F9C66E8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electron clouds moving in response to external fie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questions about melting point and boiling point are about intermolecular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 special attention to H-bonding and Van de Waals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D521-09D5-4F2D-8BB7-004C94C5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95C7-27E8-4F93-B905-BB477962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3E33-7F97-4569-8608-F99F353B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B2E7-8667-46FF-8F08-592F403D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DB9-73F9-4EDC-93A0-16A2C512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3F0F-9621-44E3-8A74-301996EC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B1DB-E402-4B39-B565-525307A6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57D-4AC0-4106-9511-A4D60937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047-9B11-475B-89F9-C6C87063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9E65-FEB8-49C5-9443-8C8651C38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7ED-AF8C-48B9-A3EE-B198BBAA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4280" y="2498400"/>
            <a:ext cx="77929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0880" y="1271520"/>
            <a:ext cx="900108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55160" y="2629080"/>
            <a:ext cx="892332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8964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1" marL="249480" indent="25128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2" marL="501120" indent="25092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3" marL="752400" indent="25128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4" marL="1004040" indent="25092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5" marL="1004040" indent="250920">
              <a:lnSpc>
                <a:spcPct val="14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6" marL="1004040" indent="250920">
              <a:lnSpc>
                <a:spcPct val="14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880" y="1271520"/>
            <a:ext cx="900108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2400" y="2604600"/>
            <a:ext cx="895824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9072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1" marL="252360" indent="25416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2" marL="506520" indent="25380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3" marL="760320" indent="25416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4" marL="1014480" indent="25380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5" marL="1014480" indent="253800">
              <a:lnSpc>
                <a:spcPct val="147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6" marL="1014480" indent="253800">
              <a:lnSpc>
                <a:spcPct val="147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earnerstv.com/animation/animation.php?ani=187&amp;cat=chemistry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E 1: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04920" y="40384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B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ization, Bonding, Resonance and Intermolecular At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 and VSE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15400" cy="5118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93840" y="1143000"/>
            <a:ext cx="474048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GMA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AND PI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9520" y="1066680"/>
            <a:ext cx="86565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ma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direct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i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lateral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600" y="6019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overlap is weaker, the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nd is easier to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Fig 1-10 orbital diagram.jpg"/>
          <p:cNvPicPr/>
          <p:nvPr/>
        </p:nvPicPr>
        <p:blipFill>
          <a:blip r:embed="rId1"/>
          <a:stretch/>
        </p:blipFill>
        <p:spPr>
          <a:xfrm>
            <a:off x="2362320" y="2438280"/>
            <a:ext cx="4876560" cy="3559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0880" y="1271520"/>
            <a:ext cx="900108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2400" y="2604600"/>
            <a:ext cx="8958240" cy="21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7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GMA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AND PI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09520" y="1066680"/>
            <a:ext cx="86565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iple bond results from one sigma, and two pi orbitals overlap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04920" y="6248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verlap is weaker, the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nds are easier to br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4184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GMA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AND PI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09520" y="1066680"/>
            <a:ext cx="86565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ma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direct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i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lateral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28600" y="6019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overlap is weaker, the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nd is easier to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9720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LECTRON DELOCAL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80880" y="1295280"/>
            <a:ext cx="84582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arnerstv.com/animation/animation.php?ani=187&amp;cat=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bSLxoX27G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for drawing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sonance stru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have more than eight valence electrons (but less is oka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reak sigma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in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art the movement from an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ne pair or dou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Fig 1-13 Benzene.jpg"/>
          <p:cNvPicPr/>
          <p:nvPr/>
        </p:nvPicPr>
        <p:blipFill>
          <a:blip r:embed="rId2"/>
          <a:stretch/>
        </p:blipFill>
        <p:spPr>
          <a:xfrm>
            <a:off x="1905120" y="3962520"/>
            <a:ext cx="6811920" cy="254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ECTRON DE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04920" y="1523880"/>
            <a:ext cx="8458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hings to know about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romati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 pla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conjugated unsatur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s obey Huckel’s Rul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n + 2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lectr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685800" y="4495680"/>
          <a:ext cx="28954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2895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IPOLE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pole mo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he majority of negative charge is at one end of a molecule or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Fig 1-15 Dipole molecules.jpg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5760" y="490680"/>
            <a:ext cx="811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MOLECULAR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457200" y="1828800"/>
            <a:ext cx="76230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80880" y="1600200"/>
            <a:ext cx="8229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ed Di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Di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ge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don Dispersion Forces or Van de Waals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CTURE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igma and Pi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Electron Delocalization and Re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Dipole Moment and Intermolecular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512640" y="463680"/>
            <a:ext cx="8116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ACTIC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371760" y="4781520"/>
            <a:ext cx="1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41360" y="1230480"/>
            <a:ext cx="8474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hybridization for the carbon indicated by the ar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12"/>
          <p:cNvGraphicFramePr/>
          <p:nvPr/>
        </p:nvGraphicFramePr>
        <p:xfrm>
          <a:off x="5181480" y="1752480"/>
          <a:ext cx="18288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18288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12640" y="463680"/>
            <a:ext cx="8116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ACTIC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371760" y="4781520"/>
            <a:ext cx="1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41360" y="123048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Which of the following is an invalid resonance structure of pyridin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14400" y="2362320"/>
          <a:ext cx="7264440" cy="15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26444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990720" y="594360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3276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9576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ING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416720" cy="32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249480">
              <a:lnSpc>
                <a:spcPct val="128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⋆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c Chemistry is concerned almost exclusively with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valent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s.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indent="249480">
              <a:lnSpc>
                <a:spcPct val="128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⋆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bonds are formed because there is an electrostatic attraction between the nuclei and the two electrons in the bond.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438280" y="5105520"/>
            <a:ext cx="39625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b0ff"/>
              </a:gs>
            </a:gsLst>
            <a:lin ang="2700000"/>
          </a:gra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5040" y="30780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28600" y="1143000"/>
            <a:ext cx="865656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3pV690yJ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onsider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tomic orbit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arb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04920" y="5410080"/>
            <a:ext cx="8656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ppears that the carbon atom can only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nds in this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Fig 1-8 carbon electrons.jpg"/>
          <p:cNvPicPr/>
          <p:nvPr/>
        </p:nvPicPr>
        <p:blipFill>
          <a:blip r:embed="rId1"/>
          <a:stretch/>
        </p:blipFill>
        <p:spPr>
          <a:xfrm>
            <a:off x="1600200" y="2057400"/>
            <a:ext cx="62452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9720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09520" y="1442880"/>
            <a:ext cx="865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1(s) + 3(p) orbitals went into the hybridization, all four orbitals are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p</a:t>
            </a:r>
            <a:r>
              <a:rPr b="1" lang="en-US" sz="24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hybrid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Fig 1-9 carbon sigma bond.jpg"/>
          <p:cNvPicPr/>
          <p:nvPr/>
        </p:nvPicPr>
        <p:blipFill>
          <a:blip r:embed="rId1"/>
          <a:stretch/>
        </p:blipFill>
        <p:spPr>
          <a:xfrm>
            <a:off x="609480" y="2209680"/>
            <a:ext cx="7931160" cy="2970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9720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8840" y="1143000"/>
            <a:ext cx="865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1(s) + 3(p) orbitals went into the hybridization, all four orbitals are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p</a:t>
            </a:r>
            <a:r>
              <a:rPr b="1" lang="en-US" sz="24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hybrid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057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09520" y="1442880"/>
            <a:ext cx="865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ybridizations of the carbon atom and “p charac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Fig 1-11 Molecule Shape Table.jpg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2092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53341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g1fGXDRxS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09520" y="1442880"/>
            <a:ext cx="86565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hybridization of carbon in a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electron “zones” and ensure that the zones add up to the ex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457200" y="3429000"/>
          <a:ext cx="365760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29000"/>
                    <a:ext cx="365760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dkiL</cp:lastModifiedBy>
  <dcterms:modified xsi:type="dcterms:W3CDTF">2009-02-24T15:40:43Z</dcterms:modified>
  <cp:revision>30</cp:revision>
  <dc:subject/>
  <dc:title> </dc:title>
</cp:coreProperties>
</file>